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D9F-409D-475B-B63D-376E5022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597-FDD2-400A-8F04-784D160C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5D9-A2F0-4016-AAE6-1307C25A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B2E-5716-45E3-8282-6F932BDA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5ADF-1C83-44A9-9290-0E6EF94B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4982-361E-474F-BA38-1861A525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5459-0CF6-4C3A-BDDF-0A2BEDDA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316A-4649-46A6-8D2E-985325C6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E3A7-2521-4DB0-87C2-0AE98BCD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57C7-4444-4AEE-8102-42362657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BAF9-5C79-4F35-9354-F898F2EA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27E-BDEF-4872-B479-AC9031B9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024A-C785-4646-9DF8-B1F21E9F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B373-88DA-4625-8C5F-BA78ECC3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04EF-A8E9-4B52-B6D2-3569AAA9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3FBE-FEF5-4C30-8AC6-27F35B97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3743-C1AB-4E5C-B10E-E7F57ED0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311-985F-4E78-9028-8AEE00DE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8FF5-A47A-4CB7-A975-523B837A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F23-87F8-469D-BAC4-7B89CCAF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E50-9ABF-4792-9213-283998E0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00B-2769-4418-BDDB-F4FD9895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9FC-34C0-4C6A-B296-B30061C6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F9A-A0BC-43FE-ADEC-58A16BC5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BDD5-5E95-4C30-A0A6-F75112837974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BFD7-3493-4B80-80FD-ECBB36D22166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.02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loor Treat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467480" y="44956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ood Floor Applic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common method is 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STRIP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ooring. Nail down thin strips of wood that are tongue and grooved to keep them close toge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orative patterns (parqu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ilient Floo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Vi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ists stains, grease and ble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able and easy to cl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st assortment of colors and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have no-wax fini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have appearance of wood, stone, t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d in sheet form (no seams shown) or individual tiles (peel and stick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ilient Floo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66"/>
                </a:solidFill>
                <a:uFillTx/>
                <a:latin typeface="Arial"/>
              </a:rPr>
              <a:t>Laminate- Manufactu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from fiberboard that is covered with a photo reproduction of wood, stone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layer of plastic provides protection from wear and t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ble, comfortable, resists dents and scr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inexpensive compared to real wood or s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i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Ceram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vailable in wide range of sizes, colors,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ol to touch, hard, du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azed tile is water and stain resis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nsive to inst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commonly used in bathrooms, entryways, and can be used in any room in warmer climates (Florida, Southwestern stat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determine the number of square yards of floor covering needed in a roo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cc00"/>
                </a:solidFill>
                <a:latin typeface="Arial"/>
              </a:rPr>
              <a:t>Multiply the length x width of room and divide by 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ff0066"/>
                </a:solidFill>
                <a:uFillTx/>
                <a:latin typeface="Arial"/>
              </a:rPr>
              <a:t>ALWAYS ROUND U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nearest whole number, cannot buy if a por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10 feet x 10 feet = 100 ft/9 = 11.111=12y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using Decis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pages 310-3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mes and Interi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pages 458, 555-55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yright ©2007, ABCD, All rights re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loors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ly the first background treatment planned in a ro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 purpose of room, amount of traffic, does it fit into color scheme of the room, what is the appearance, comfort, durability, cost, and maintenanc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ft Floor Covering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as carpets and 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66"/>
                </a:solidFill>
                <a:uFillTx/>
                <a:latin typeface="Arial"/>
              </a:rPr>
              <a:t>Advantag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ulate cold flo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sound control and walking comf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color and texture to a ro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rp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Wall-to-w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covers an entire floor. Makes room appear larger, can hide a poor quality flo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be moved and some parts will show wear faster (especially in high traffic are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carpets are made from </a:t>
            </a:r>
            <a:r>
              <a:rPr b="1" lang="en-US" sz="3000" spc="-1" strike="noStrike" u="sng">
                <a:solidFill>
                  <a:srgbClr val="ff0066"/>
                </a:solidFill>
                <a:uFillTx/>
                <a:latin typeface="Arial"/>
              </a:rPr>
              <a:t>NYL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g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cc00"/>
                </a:solidFill>
                <a:latin typeface="Arial"/>
              </a:rPr>
              <a:t>Room s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exposes a border of floor, usually hardwoods. These rugs may be expensive to cle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cc00"/>
                </a:solidFill>
                <a:latin typeface="Arial"/>
              </a:rPr>
              <a:t>Area rug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vary in size, but do not cover the entire floor. Used to define specific areas of a room, can be a focal point, can moved to different parts of the home with ease. Some may be machine washed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under carpet and rugs to extend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ens wear and increases resil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luxury and warm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hair, jute, sponge, foam rub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inexpensive or very expens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st = high quality = longer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Most popul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looring materi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s good with all styles of furni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s beauty and warmth to a ro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able and resists 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 is moderate to high depending on quality and ty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ard Woo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ically more expens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ak, hard maple, beech, birch, hickory, mahogany, cherry, te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ak is the most common because of beauty, warmth and dur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ft Woo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thern yellow pine, Douglas fir, hemlo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wood, cedar, cypress, eastern white pine are also us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ly softer and dent eas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9:49:57Z</dcterms:created>
  <dc:creator>s.brooks</dc:creator>
  <dc:description/>
  <dc:language>en-US</dc:language>
  <cp:lastModifiedBy>s.brooks</cp:lastModifiedBy>
  <dcterms:modified xsi:type="dcterms:W3CDTF">2009-02-24T17:28:04Z</dcterms:modified>
  <cp:revision>14</cp:revision>
  <dc:subject/>
  <dc:title>4.02  Floor Treatments</dc:title>
</cp:coreProperties>
</file>